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1490-7D09-4D6C-B835-2C5F81A1C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6993-9C31-4BB5-82EA-C4275409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C60E-26A5-42BC-84B0-204DE3C3A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6C29-B1A0-438D-BB46-6299546DF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DE5F-773E-47D2-B4AD-3B0F20AC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9742-86F3-4B4B-AA31-0E16A814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D572-2585-421A-BEC6-1242F308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2901-27E9-48A0-980B-B8443959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5D03-B964-497A-B9B5-5BF275D0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E87D-AFC5-414F-A882-CFD2AFE0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085A-A5B4-4AC9-BA5D-E8B4D537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7653-49E0-4DB8-8470-A6F422C6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C7FC-ACFA-401D-994A-015211609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0960" y="6248520"/>
            <a:ext cx="644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5 by Deitel &amp; Associates, Inc. and Pearson Education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utorial 10 – Enhancing 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ge Calculat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pplication: Introducing Functions</a:t>
            </a:r>
            <a:endParaRPr b="0" lang="en-US" sz="36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est-Driving the Enhanced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age Calculator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++ Standard Library Functions and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unction Defin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ompleting th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Maximum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5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Using Functions in the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age Calculator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6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Using the Debugger: Controlling Execution Using the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Step Into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Step Over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,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Step Ou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ontinu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Comm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7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Wrap-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66880" y="3395520"/>
            <a:ext cx="5610240" cy="933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89960" y="1623960"/>
            <a:ext cx="55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otenuse 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upda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Defini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function is invoked (or called) by a function 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 call specifies the function name and includes data (arguments) for the callee (function being call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name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guments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x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Defini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66680" y="3733920"/>
            <a:ext cx="417204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Defini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14600" y="1625760"/>
            <a:ext cx="6249960" cy="2133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13280" y="1125360"/>
            <a:ext cx="421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k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qua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2286000"/>
            <a:ext cx="19810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l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qua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 for each 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09680" y="2590920"/>
            <a:ext cx="1447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3" dur="1" fill="hold"/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4" dur="1" fill="hold"/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36840" y="1905120"/>
            <a:ext cx="6249960" cy="3762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12560" y="1278000"/>
            <a:ext cx="424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Defini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276720"/>
            <a:ext cx="15238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l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mat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q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3581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4191120"/>
            <a:ext cx="190512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tting and displaying the length of the hypoten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057400" y="411480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4572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5" dur="1" fill="hold"/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6" dur="1" fill="hold"/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7" dur="1" fill="hold"/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Defini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66880" y="2054160"/>
            <a:ext cx="5610240" cy="12765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functions are easier to test, debug and understand than large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7600" y="1623960"/>
            <a:ext cx="725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from the comple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otenuse 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608200" y="1676520"/>
            <a:ext cx="6154920" cy="4371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14720" y="1201680"/>
            <a:ext cx="55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k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termineMaxim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4 Completing the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maximum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func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3124080"/>
            <a:ext cx="19810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putting three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3276720"/>
            <a:ext cx="1295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3276720"/>
            <a:ext cx="1295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09680" y="327672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4800600"/>
            <a:ext cx="22100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ling the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termineMaximu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6232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2" dur="1" fill="hold"/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3" dur="1" fill="hold"/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4 Completing the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maximum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func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90920" y="1797120"/>
            <a:ext cx="6154560" cy="17906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termineMaxim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turns the largest of three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0680" y="1233360"/>
            <a:ext cx="55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termineMaxim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2133720"/>
            <a:ext cx="221004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empty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termineMaximu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259092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4" dur="1" fill="hold"/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5" dur="1" fill="hold"/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4 Completing the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maximum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func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608200" y="1797120"/>
            <a:ext cx="6154920" cy="1790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king pre-existing functi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d in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lgorithm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ibrary header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0240" y="1233360"/>
            <a:ext cx="551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turns the larger of its two argu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1905120"/>
            <a:ext cx="220968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l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wice to determine the maximum of three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236232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2971800"/>
            <a:ext cx="22100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ing the maximum of all three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362320" y="2971440"/>
            <a:ext cx="1218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4" dur="1" fill="hold"/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45" dur="1" fill="hold"/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4 Completing the </a:t>
            </a:r>
            <a:r>
              <a:rPr b="0" lang="en-US" sz="2800" spc="-1" strike="noStrike">
                <a:solidFill>
                  <a:srgbClr val="ff0000"/>
                </a:solidFill>
                <a:latin typeface="Courier New"/>
              </a:rPr>
              <a:t>maximum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func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66880" y="3224160"/>
            <a:ext cx="5610240" cy="1276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89600" y="1623960"/>
            <a:ext cx="42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1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xim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outp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6181920" cy="4525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7200" y="1219320"/>
            <a:ext cx="53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1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lls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culateP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Functions in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Wage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2743200"/>
            <a:ext cx="22860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putting wage and hours wor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3048120"/>
            <a:ext cx="990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4057560"/>
            <a:ext cx="24382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l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culatePa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4362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5257800"/>
            <a:ext cx="22860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tting and displaying the total w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438280" y="5410080"/>
            <a:ext cx="10670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438280" y="487656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7" dur="1" fill="hold"/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78" dur="1" fill="hold"/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79" dur="1" fill="hold"/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bjectiv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tutorial, you will lear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 applications modularly from pieces called functions—simplifying your application’s design, implementation and maintenan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ve time by working with “built-in”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your own functions to perform custom task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rol execution using debugger commands to locate logic erro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332160" y="1600200"/>
            <a:ext cx="5430960" cy="4525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13640" y="1201680"/>
            <a:ext cx="50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1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culateP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Functions in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Wage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2168640"/>
            <a:ext cx="15238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 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23209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3753000"/>
            <a:ext cx="28195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ing gross wages based on the number of hours wor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40575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5140440"/>
            <a:ext cx="27432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 the wages for the 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5292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6" dur="1" fill="hold"/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7" dur="1" fill="hold"/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Functions in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Wage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66880" y="3224160"/>
            <a:ext cx="5610240" cy="1276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65560" y="1776240"/>
            <a:ext cx="49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1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ge 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outp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0"/>
          <a:ext cx="6856560" cy="450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6858000" y="380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geCalculator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2228760"/>
            <a:ext cx="36576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culatePa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 takes tw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arameters, returns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571640" y="2514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3200400"/>
            <a:ext cx="28954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ot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ariable will contain users wages for the 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3809880" y="3048120"/>
            <a:ext cx="1524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15000" y="4191120"/>
            <a:ext cx="21337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novertime hour li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4190760" y="411444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4" dur="1" fill="hold"/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35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0" y="0"/>
          <a:ext cx="6856560" cy="400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6858000" y="30492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geCalculator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129528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1219320"/>
            <a:ext cx="25909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e wages based on the number of hours wor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3885840" y="114300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2895480"/>
            <a:ext cx="32767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ot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calling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828440" y="30481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81280" y="4114800"/>
            <a:ext cx="29718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osing brace ends function 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685440" y="3657240"/>
            <a:ext cx="2895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2" dur="1" fill="hold"/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63" dur="1" fill="hold"/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0" y="0"/>
          <a:ext cx="8229600" cy="35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229600" cy="35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6858000" y="30492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geCalculator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57800" y="1523880"/>
            <a:ext cx="20574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mpt for user in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429000" y="1676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190760" y="1676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6" dur="1" fill="hold"/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77" dur="1" fill="hold"/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78" dur="1" fill="hold"/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0" y="0"/>
          <a:ext cx="6856560" cy="342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4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6934320" y="304920"/>
            <a:ext cx="22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geCalculator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1752480" y="3276720"/>
            <a:ext cx="5610240" cy="12762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809880" y="790560"/>
            <a:ext cx="31244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l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culatePa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2590920" y="457200"/>
            <a:ext cx="1218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1752480"/>
            <a:ext cx="243828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t and display value returned from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culatePa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4952880" y="182880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7" dur="1" fill="hold"/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98" dur="1" fill="hold"/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Controlling Execution Us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Into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Ov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Ou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ontinu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Command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vantGarde"/>
              </a:rPr>
              <a:t>Step</a:t>
            </a:r>
            <a:r>
              <a:rPr b="0" lang="en-US" sz="28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vantGarde"/>
              </a:rPr>
              <a:t>In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cutes the next statement in the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next statement is a function call, program control goes to that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vantGarde"/>
              </a:rPr>
              <a:t>Step</a:t>
            </a:r>
            <a:r>
              <a:rPr b="0" lang="en-US" sz="28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vantGarde"/>
              </a:rPr>
              <a:t>O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ts like the </a:t>
            </a:r>
            <a:r>
              <a:rPr b="1" lang="en-US" sz="2200" spc="-1" strike="noStrike">
                <a:solidFill>
                  <a:srgbClr val="000000"/>
                </a:solidFill>
                <a:latin typeface="AvantGarde"/>
              </a:rPr>
              <a:t>Step Int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ext statement is a function call, the function executes in its entirety and control goes to the next executable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Controlling Execution Us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Into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Ov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Ou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ontinu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Command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vantGarde"/>
              </a:rPr>
              <a:t>Step 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cutes remaining statements in a function and returns control to the cal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vantGarde"/>
              </a:rPr>
              <a:t>Conti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cutes until the next breakpoint or the end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whichever comes fir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532240" y="2743200"/>
            <a:ext cx="6230880" cy="10000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91040" y="1828800"/>
            <a:ext cx="57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1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ting a breakpoint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ge 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Controlling Execution Us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Into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Ov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Ou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ontinu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Command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2895480"/>
            <a:ext cx="19051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tting a break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3372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9" dur="1" fill="hold"/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10" dur="1" fill="hold"/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Controlling Execution Us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Into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Ov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Ou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ontinu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Command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608200" y="2192400"/>
            <a:ext cx="6230880" cy="10000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tep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mand to transfer program control to the called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2560" y="1600200"/>
            <a:ext cx="693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1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ching a breakpoint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ge 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2381400"/>
            <a:ext cx="22860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xt statement to execute is a function c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38280" y="2685960"/>
            <a:ext cx="228600" cy="5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21" dur="1" fill="hold"/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22" dur="1" fill="hold"/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Wage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82600" y="1600200"/>
            <a:ext cx="6778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Controlling Execution Us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Into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Ov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Ou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ontinu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Command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513160" y="2209680"/>
            <a:ext cx="6249960" cy="21337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90680" y="1614600"/>
            <a:ext cx="54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2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ping into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culateP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2280" y="2362320"/>
            <a:ext cx="205740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itions (without assignments) are not considered executable stat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09680" y="2895480"/>
            <a:ext cx="12193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3809880"/>
            <a:ext cx="14479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xt statement to exec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676520" y="37339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1" dur="1" fill="hold"/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42" dur="1" fill="hold"/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Controlling Execution Us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Into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Ov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Ou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ontinu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Command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513160" y="2795760"/>
            <a:ext cx="6249960" cy="21333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92840" y="1714680"/>
            <a:ext cx="68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2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ping over a statement in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culateP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2971800"/>
            <a:ext cx="198144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is transferred to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…el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362320" y="33526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3" dur="1" fill="hold"/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54" dur="1" fill="hold"/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Controlling Execution Us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Into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Ov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Ou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ontinu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Command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455920" y="2286000"/>
            <a:ext cx="6230880" cy="21337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13280" y="1623960"/>
            <a:ext cx="836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2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ting a second breakpoint in the enhanc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ge 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3048120"/>
            <a:ext cx="14479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tting second break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335268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65" dur="1" fill="hold"/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66" dur="1" fill="hold"/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Controlling Execution Us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Into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Ov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Ou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ontinu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Command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532240" y="2666880"/>
            <a:ext cx="6230880" cy="11620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90320" y="1776240"/>
            <a:ext cx="547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2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the debugger’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in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m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2971800"/>
            <a:ext cx="15238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xt executable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752480" y="3200400"/>
            <a:ext cx="15242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77" dur="1" fill="hold"/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78" dur="1" fill="hold"/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Controlling Execution Us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Into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Ov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Ou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ontinu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Command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455920" y="2057400"/>
            <a:ext cx="6230880" cy="2133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66280" y="1623960"/>
            <a:ext cx="55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2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the debugger’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Ov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m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2590920"/>
            <a:ext cx="2133720" cy="1310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culatePa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 is executed without stepping into it when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ep Ov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ommand is se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286000" y="289512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89" dur="1" fill="hold"/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90" dur="1" fill="hold"/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Wage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66880" y="2995560"/>
            <a:ext cx="5610240" cy="1733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91040" y="1700280"/>
            <a:ext cx="377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ge 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utp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++ Standard Library Functions and Class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Standard Library functions and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-existing code available for re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igned for maximum efficien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sted to eliminate bu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Standard Library Function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from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cmath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ibrar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Standard Library Class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from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iostream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ibrar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er-defined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created to meet unique requirements of new appl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82560" y="1371600"/>
          <a:ext cx="7769160" cy="52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71600"/>
                    <a:ext cx="77691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++ Standard Library Functions and Classe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625840" y="1600200"/>
            <a:ext cx="621324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91760" y="1111320"/>
            <a:ext cx="51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otenuse 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emplate c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Definition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2438280"/>
            <a:ext cx="23623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ngths for sides A and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259092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4419720"/>
            <a:ext cx="213372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or message displays if negative value (or zero) is ent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4876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" dur="1" fill="hold"/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/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Defini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878200" y="1600200"/>
            <a:ext cx="5884920" cy="2185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header inclu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2920" y="1157400"/>
            <a:ext cx="420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qua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1981080"/>
            <a:ext cx="15242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 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76520" y="2133720"/>
            <a:ext cx="1828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2743200"/>
            <a:ext cx="24386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right brace marks the end of a function 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04812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9" dur="1" fill="hold"/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0" dur="1" fill="hold"/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Defini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665440" y="1797120"/>
            <a:ext cx="6249960" cy="1790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returned is the same type declared in the function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romote reusability, each function should perform a single well defined 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9240" y="1278000"/>
            <a:ext cx="41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qua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2441520"/>
            <a:ext cx="198108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atement sends a value back to the functions ca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2822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1" dur="1" fill="hold"/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2" dur="1" fill="hold"/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17:39:01Z</dcterms:created>
  <dc:creator>Eric Winokur</dc:creator>
  <dc:description/>
  <dc:language>en-US</dc:language>
  <cp:lastModifiedBy>Pearson Education</cp:lastModifiedBy>
  <dcterms:modified xsi:type="dcterms:W3CDTF">2004-10-11T14:12:05Z</dcterms:modified>
  <cp:revision>124</cp:revision>
  <dc:subject/>
  <dc:title>Tutorial 10 – Enhancing the Wage Calculator Application: Introducing Functions</dc:title>
</cp:coreProperties>
</file>